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35FA-2F4A-437B-86AC-75A09B0B0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2EDA-4AB2-4ACE-A388-0D293E1C4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517F-0E88-4706-A9DB-41748CAAE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4224-B95D-4A4D-87FF-49FAB1921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84B822-945F-4FD4-A0AF-461624983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991634-7A02-48C2-BD7E-35C61D745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0536E4-08E4-443B-8791-2A73E81C6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88FA98-33F5-4482-B9FB-E17F61BDE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E1B22F-B3C3-4128-80BA-A135C738D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EA3E78-101C-4C31-A5C2-DA87B5DA1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801CB8-B664-46AD-BF44-82F3CB09E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EB0E-AE2D-4AA8-A334-8A11AD43C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9D8835-1C90-4BB0-AA75-1137A6479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EACFD8-B754-49E5-8AC2-B95453497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AF9184-5CA5-410B-8F38-5A43D5BD2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A2AD1D-CCCB-4F90-8BFF-520CCA155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F9DD9F-735D-4759-B007-BEA232C42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1B8B-8CC3-4CF5-801A-F6649996A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9B11-0B1F-4938-BE3E-71407CC56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5B8D-7DF6-4578-A455-A90A20E34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AD6C-DBBD-4861-B9A0-290C9ADAB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C2DA-088E-4804-83D7-5DA866079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F844-7726-4272-BB9F-11915A8E5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C2DA-D5AB-43D7-B12B-CB25E6675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58FCC-61BB-475B-8425-3980F017C9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A3E53-32B2-4747-8BCA-ADDFEF4848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MY Interpretation of Trifl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e many Faces of Abus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828800" y="190512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69027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6T12:48:47Z</dcterms:created>
  <dc:creator>LILLYA GLENN</dc:creator>
  <dc:description/>
  <dc:language>en-US</dc:language>
  <cp:lastModifiedBy>LILLYA GLENN</cp:lastModifiedBy>
  <dcterms:modified xsi:type="dcterms:W3CDTF">2008-04-06T13:55:28Z</dcterms:modified>
  <cp:revision>5</cp:revision>
  <dc:subject/>
  <dc:title>Trifles Trailer</dc:title>
</cp:coreProperties>
</file>